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43BE-C797-4853-8EC4-D740593CA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BE74-15F4-4F63-A0FF-FC2AA45F6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6AF-D228-4776-BF82-3FDC72F0F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747A-F0C3-4858-8EE0-3B3755D4F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50E9-2B04-4245-ABB6-712539CB5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29E1-3406-4C9D-B190-0072F6837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36C6-F61B-48CD-A90E-AC31186F5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2EAF-39DE-48FF-A3CE-45D89E977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16E5-0D55-4372-B672-F4A2B9AEB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A9E-1621-465C-B29C-7803BFDEF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01C-582B-48E4-A782-E01794AA4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7E8-9963-4E6F-A373-EAED47F385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D8D4-7AF6-417E-9DA3-B8A9BB423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1E82-2F32-4779-B7C1-A1968035E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F9F8-AC06-4B8D-96A0-7B1B0623E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EF6-F972-49EA-9BA7-F7636AB12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CFCE-1783-4AA0-9582-4677285F2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75DB-D779-4D5F-83AA-BC35FFE29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F46-3D51-48F5-91D9-1D1151F43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795D-157D-41DB-8E7B-8DA46C567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6DD8-94D8-440B-9890-8D6DBC8AA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85BC-7670-4417-821D-6F19F6690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A335-F673-4BE1-9031-D13785097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F394-4DFC-4D71-A5FE-BBF64304D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3BCB-7958-4F90-AA31-75F6A8FBE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AB85-47D1-45F7-B747-7FC569187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DE50-1D49-4B16-9778-E788DED30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211B-0A13-46EA-AEB1-58F2E271B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B2E2-1885-43C4-98F6-B08A3E845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959A-7D80-4613-BF18-8DE7641C2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E0D-DFA7-4100-B7A1-488734703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104-482E-4C91-956B-3C41FA939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0344-652B-45A6-A522-7A72585CD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5F86-B1A2-42AE-A62C-C42BE7481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BD6F-AF0B-454C-8504-522A4EE85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9785-6379-4270-9877-3138AF4AC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7528-6845-47C1-ACF1-F276F2B00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AF7-1523-46E9-B427-A64A46B9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EEB-1E76-4B1A-9790-3E20618A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228-5BE0-46C9-8B1F-7608CB3C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0C4-E599-4F59-960B-613881C7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3086-6EC0-4421-B96A-E331619E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498D-4BC9-4128-81FB-283216D5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296D-F91D-407C-8EDF-22DDA396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22C2-73DF-4EFD-9396-1D6BD435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4466-9A87-4E04-BA89-46144280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B0E0-310F-45F8-8E05-03E19B16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2AED-F175-47A3-BCDC-4E0E5D1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C0D-C48E-499C-BCBE-6FEC7C9F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A342-8FE4-4444-9293-BE4E1AD5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F467-9E83-4347-BFA8-6696422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C949-556D-4DC3-91DE-E349CE14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0737-F075-45EB-9DBA-8D6358E7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5878-1121-4781-829D-20EB3B7F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6814-C50E-4845-AE2A-6F40E14F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9EEE-E44D-4917-AD98-ADBAEA63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A251-10EF-4AA2-B7C7-78BCF27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71CB-AEC9-425D-8F4F-DC99D9CA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AB09-0440-4ADB-8C0B-D245FE3C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1B5-3766-4F1F-BB6B-351815EB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3512-7861-447F-B4BF-21A19E33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26D7-E3C7-4990-8854-A3F89F76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ECB9-C487-4F90-B1BC-3B3575C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E5EB-046D-4C26-B61F-994B488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4048-8C3F-47EB-BB04-BCA6E12F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2554-7B0B-4B08-945D-EE207FA0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539B-0B8B-483E-AE05-D7384C7D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C38-9CB7-44CB-876B-4537F83C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0D1-022F-40A4-AF9D-75C5B479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312-5C72-4BC7-AFCC-29C21D37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884-66FF-4CF0-A472-59311E5F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28A-37A4-4E5D-AD1D-F568E80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A0B-B7C6-4798-871F-E98D1DF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3732-3FD6-4F4C-AD42-030371AADE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B4E-2E0B-474B-91A9-06B9A3732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6E0D-8402-45C1-8D76-09454FCCDE3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bertina"/>
          <p:cNvPicPr/>
          <p:nvPr/>
        </p:nvPicPr>
        <p:blipFill>
          <a:blip r:embed="rId1"/>
          <a:stretch/>
        </p:blipFill>
        <p:spPr>
          <a:xfrm>
            <a:off x="1403280" y="404640"/>
            <a:ext cx="6464520" cy="1133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6836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ИСТОРИЯ И ФИЛОСОФИЯ НАУКИ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philoslog.albertina.ru</a:t>
            </a:r>
            <a:br>
              <a:rPr sz="24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ratio.albertina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2915280" y="2060640"/>
            <a:ext cx="28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Критическая провер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651640" y="27813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Нестрог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1548720" y="278136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Строг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437200" y="3645000"/>
            <a:ext cx="184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эмпирическая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49480" y="3645000"/>
            <a:ext cx="204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рациональное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доказатель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6921000" y="3645000"/>
            <a:ext cx="166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включение в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традиц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640400" y="3645000"/>
            <a:ext cx="162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критическая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интерпрета-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468360" y="51577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38560" y="515772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Естествозн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5866920" y="5157720"/>
            <a:ext cx="19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Гуманитарные</a:t>
            </a:r>
            <a:br>
              <a:rPr sz="2000"/>
            </a:br>
            <a:r>
              <a:rPr b="0" lang="ru-RU" sz="2000" spc="-1" strike="noStrike">
                <a:solidFill>
                  <a:srgbClr val="660000"/>
                </a:solidFill>
                <a:latin typeface="Arial"/>
              </a:rPr>
              <a:t>нау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4"/>
          <p:cNvSpPr/>
          <p:nvPr/>
        </p:nvSpPr>
        <p:spPr>
          <a:xfrm flipH="1">
            <a:off x="2195280" y="2421000"/>
            <a:ext cx="2089080" cy="4316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4284720" y="2421000"/>
            <a:ext cx="1942920" cy="4316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6"/>
          <p:cNvSpPr/>
          <p:nvPr/>
        </p:nvSpPr>
        <p:spPr>
          <a:xfrm flipH="1">
            <a:off x="1258920" y="3213000"/>
            <a:ext cx="936720" cy="43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2195640" y="3213000"/>
            <a:ext cx="936360" cy="5032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8"/>
          <p:cNvSpPr/>
          <p:nvPr/>
        </p:nvSpPr>
        <p:spPr>
          <a:xfrm flipH="1">
            <a:off x="5364000" y="3141720"/>
            <a:ext cx="936720" cy="5032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6300720" y="3141720"/>
            <a:ext cx="1079640" cy="57456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5651640" y="4653000"/>
            <a:ext cx="1081080" cy="5047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1"/>
          <p:cNvSpPr/>
          <p:nvPr/>
        </p:nvSpPr>
        <p:spPr>
          <a:xfrm flipH="1">
            <a:off x="6732720" y="4508640"/>
            <a:ext cx="1008000" cy="649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1258920" y="4365720"/>
            <a:ext cx="0" cy="79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3348000" y="4365720"/>
            <a:ext cx="0" cy="79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Критическая установка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предрасположенность мышления к проверке существующих взглядов, концепций и теорий с целью выяснения их несоответствия принимаемым фактам, нормам или ценност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8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24000" y="2133720"/>
            <a:ext cx="8424720" cy="324000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62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3100" spc="-1" strike="noStrike">
                <a:solidFill>
                  <a:srgbClr val="660000"/>
                </a:solidFill>
                <a:latin typeface="Georgia"/>
              </a:rPr>
              <a:t>Критическая установка демонстрирует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62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фактическую ложность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логическую необоснованность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неприемлемость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с точки зрения нормативных или ценностных представлен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611280" y="2637000"/>
            <a:ext cx="7993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Догматическая установка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– предрасположенность к принятию некоторых фактов, теоретических положений, норм или ценностей (в данной формулировке) как раз и навсегда установленных и не подлежащих пересмот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539640" y="2565360"/>
            <a:ext cx="8136000" cy="223200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826920" y="2133720"/>
            <a:ext cx="770436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920" indent="-7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Объективность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– результат применения к знаниям критической установ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Цель науки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в целом – объективное постижение космоса, включая и человека, создание картины мира, независимой от внутреннего мира отдельных человеческих су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900000" y="3573360"/>
            <a:ext cx="7559640" cy="244800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1"/>
          <p:cNvSpPr/>
          <p:nvPr/>
        </p:nvSpPr>
        <p:spPr>
          <a:xfrm>
            <a:off x="539640" y="2276640"/>
            <a:ext cx="82076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занимается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бщи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проверяем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бласть науки: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абстрактные объек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эмпирические факты.</a:t>
            </a:r>
            <a:r>
              <a:rPr b="0" lang="ru-RU" sz="18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Абстрактный объект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свойства или отношения предметов, рассматриваемые в отвлечении от самих этих предме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Абстрактные объекты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- основа для формулировки универсальных законов и теоретических сист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материальная точка в ньютоновской механике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абсолютно черное тело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гениальн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395280" y="1989000"/>
            <a:ext cx="8353440" cy="107964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8642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Эмпирические факты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высказывания, основанные на чувственном восприят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истема эмпирических фактов образует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опыт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8642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Нау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абстрактные структуры, в рамках которых возможно рациональное доказатель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пыт, при помощи которого производится эмпирическая провер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425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бъективность науки – самоогранич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не занимается знаниями, которые не могут быть выражены в виде общих абстрактных структур или структур, основанных на опы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179280" y="3357720"/>
            <a:ext cx="8640720" cy="151128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9567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Дилемма сциентизма и антисциентизма в современной философ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59280" y="189000"/>
            <a:ext cx="39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8642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Непосредственные цели науки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3000" indent="-4230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пис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3000" indent="-4230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бъяснение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3000" indent="-4230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предсказа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писание, объяснение и предсказание возможно и в ненаучных видах деятельности (пример – мифолог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Научное описание, объяснение и предсказание строятся на основе </a:t>
            </a: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законов науки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2565000"/>
            <a:ext cx="8642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Закон науки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универсальное высказывание, доступное рациональному доказательству или эмпирической провер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95280" y="2492280"/>
            <a:ext cx="8280360" cy="230508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Логическая форма зако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Symbol"/>
                <a:ea typeface="Symbol"/>
              </a:rPr>
              <a:t></a:t>
            </a: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х (Р(х) </a:t>
            </a:r>
            <a:r>
              <a:rPr b="0" i="1" lang="ru-RU" sz="2400" spc="-1" strike="noStrike">
                <a:solidFill>
                  <a:srgbClr val="660000"/>
                </a:solidFill>
                <a:latin typeface="Symbol"/>
                <a:ea typeface="Symbol"/>
              </a:rPr>
              <a:t></a:t>
            </a: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 Q(х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Все металлы при нагревании расширя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х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переменная, пробегающая по металл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Р 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– свойство «быть нагретым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свойство «расширятьс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50920" y="2707920"/>
            <a:ext cx="8642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Ценности наук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21000" indent="-36504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Истин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21000" indent="-36504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26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Новиз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2.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Наука как социальный институт.</a:t>
            </a: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оциальный институт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стойчивая структура деятельности, направленная на организацию достижения целей, общих для больших групп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Субъектом науки является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научное сообщество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чное сообщество организует критическую провер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684360" y="5229360"/>
            <a:ext cx="7848360" cy="86364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755640" y="1989000"/>
            <a:ext cx="7848720" cy="158436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Главные социальные институ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Georgia"/>
              </a:rPr>
              <a:t>Научные организации</a:t>
            </a: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  как способ упорядочения деятельности научного сообществ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Georgia"/>
              </a:rPr>
              <a:t>Научные публикации</a:t>
            </a: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 как способ информирования научного сообщества о результатах и оценки этих результа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чная деятельность регулиру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правом (в том числе авторским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экономикой наук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522720">
              <a:lnSpc>
                <a:spcPct val="9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этикой наук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360" y="3068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Социология науки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изучение форм организации научной де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395280" y="1989000"/>
            <a:ext cx="828036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Роберт Мертон - императивы научного это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Georgia"/>
              </a:rPr>
              <a:t>Универсализм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предписывает ученому формулировать высказывания, истинность которых не зависит от конкретных условий его создания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Georgia"/>
              </a:rPr>
              <a:t>Коллективизм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предписывает ученому незамедлительно передавать свои результаты в пользование научному сообществ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Georgia"/>
              </a:rPr>
              <a:t>Бескорыстие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предписывает строить свою деятельность как будто кроме постижения истины у него нет никаких других интере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Georgia"/>
              </a:rPr>
              <a:t>Организованный скептицизм</a:t>
            </a: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 требует объективного анализа любого научного высказывания и его критической провер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"/>
          <p:cNvSpPr/>
          <p:nvPr/>
        </p:nvSpPr>
        <p:spPr>
          <a:xfrm>
            <a:off x="395280" y="1989000"/>
            <a:ext cx="8280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сновные характеристики науки как професс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бладание ученым специальными знаниями, за хранение, передачу и расширение которых ответственно научное сообщество. Ученый как экспер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Автономность научного сообщества в привлечении новых членов, их подготовке и  контроле их профессионального пове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Наличие внутри профессии форм вознаграждения, образующих достаточные стимулы для профессиональной карь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Заинтересованность социального окружения профессии в продукте деятельности ее членов, гарантирующая как существование, так и воспроизводство професс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3"/>
          <p:cNvSpPr/>
          <p:nvPr/>
        </p:nvSpPr>
        <p:spPr>
          <a:xfrm>
            <a:off x="395280" y="1989000"/>
            <a:ext cx="8280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Массив публикаций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вся совокупность публикации в печатных и электронных изданиях по актуальным для данной научной дисциплине проблемам, доступные дисциплинарному сообще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Виды публикац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бзо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Монографии индивидуальные и коллективны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Georgia"/>
              <a:buAutoNum type="arabicPeriod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Учебн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39640" y="1989000"/>
            <a:ext cx="7993080" cy="151128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итерату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Микешина Л.А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 науки. – М.: Прогресс-Традиция, 2005. - С. 167-1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арсонс Т., Сторер Н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Научная дисциплина и дифференциация науки // Научная деятельность: структура и институты / под ред. Э.М. Мирского и Б.Г. Юдина. - М.: Прогресс, 1980. – С. 27-5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ппер К.Р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Объективное знание. Эволюционный подход /отв. ред. В.Н. Садовский. – М.: Эдиториал УРСС, 2002. Гл. 5. Цель науки. – С. 185-1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4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Степин В.С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 науки. Общие проблемы: учебник для аспирантов и соискателей ученой степени кандидата наук. – М.: Гардарики, 2006. Гл, 2. С. 91-155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Структура и развитие науки. Из Бостонских исследований по философии науки / Под ред. Б.С. Грязнова и В.Н. Садовского. - М.: Прогресс, 197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Философия науки /под ред. С.А. Лебедева. Учебное пособие для вузов. – М.: Академический проспект, 2005. – С.  7-32, 303-385, 685-72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Этос науки. М.: </a:t>
            </a:r>
            <a:r>
              <a:rPr b="0" lang="en-US" sz="1800" spc="-1" strike="noStrike">
                <a:solidFill>
                  <a:srgbClr val="660000"/>
                </a:solidFill>
                <a:latin typeface="Georgia"/>
              </a:rPr>
              <a:t>Academia, 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200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395280" y="234936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оциальный институт (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XVII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век  - начало 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XVIII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 века) - в Европе организованы первые научные общества и академии и началось издание научных журналов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3"/>
          <p:cNvSpPr/>
          <p:nvPr/>
        </p:nvSpPr>
        <p:spPr>
          <a:xfrm>
            <a:off x="395280" y="2421000"/>
            <a:ext cx="82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 рубеже XIX-XХ  веков возникает новый способ организации науки – крупные научные институты и лаборатории с мощной экспериментальной баз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Способ организации научного труда приближается к формам организации современного индустриального тру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395280" y="2421000"/>
            <a:ext cx="82803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ка – основа могущества государства и объект полити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Цикл: "Наука – техника – производство"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60-70 годы ХХ века – научно-техническая револю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чало XXI века – информационная научная револю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9"/>
          <p:cNvSpPr/>
          <p:nvPr/>
        </p:nvSpPr>
        <p:spPr>
          <a:xfrm>
            <a:off x="468360" y="836640"/>
            <a:ext cx="795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1" lang="ru-RU" sz="2000" spc="-1" strike="noStrike">
                <a:solidFill>
                  <a:srgbClr val="660000"/>
                </a:solidFill>
                <a:latin typeface="Georgia"/>
              </a:rPr>
              <a:t> Наука и философия. Дилемма сциентизма и антисциентизма в современной философии</a:t>
            </a:r>
            <a:r>
              <a:rPr b="1" lang="en-US" sz="20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84360" y="2276640"/>
            <a:ext cx="77752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Наука дает философии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аучные знания, которые используются для построения мировоззр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идеал объективного зн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модель системного зн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и философия. Дилемма сциентизма и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антисциентизма в современной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395280" y="2060640"/>
            <a:ext cx="8280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Философия дает науке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онятие цели научной деятельности, места науки в структуре ми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учение о методах научного познан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ознавательные ориентиры - в каком направлении осуществлять научный поис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"/>
          <p:cNvSpPr/>
          <p:nvPr/>
        </p:nvSpPr>
        <p:spPr>
          <a:xfrm>
            <a:off x="539640" y="2492280"/>
            <a:ext cx="828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Сциентизм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(scientia – знание, наука) – философская установка, согласно которой научное знание является наивысшей культурной ценностью и достаточным условием для ориентации человека в м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и философия. Дилемма сциентизма и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антисциентизма в современной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468360" y="2276640"/>
            <a:ext cx="8280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Антисциентизм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концепция, согласно которой наука не имеет отношения к достижению существенных целей человеческой жизни или враждебна 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граниченность возможностей нау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Font typeface="Georgia"/>
              <a:buChar char="•"/>
              <a:tabLst>
                <a:tab algn="l" pos="26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есовместимость объективности и человеческого ми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и философия. Дилемма сциентизма и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антисциентизма в современной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1. Наука как познавательная деятельность.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6" name="Picture 8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Деятельность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– процесс целесообразного преобразования объек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Субъект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 деятельности – лицо, осуществляющее преобразование объ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Объект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 деятельности – предмет реальности или представление субъекта о н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Деятельно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Times New Roman"/>
              <a:buChar char="•"/>
              <a:tabLst>
                <a:tab algn="l" pos="0"/>
                <a:tab algn="l" pos="2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цел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Times New Roman"/>
              <a:buChar char="•"/>
              <a:tabLst>
                <a:tab algn="l" pos="0"/>
                <a:tab algn="l" pos="2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средств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5000"/>
              <a:buFont typeface="Times New Roman"/>
              <a:buChar char="•"/>
              <a:tabLst>
                <a:tab algn="l" pos="0"/>
                <a:tab algn="l" pos="2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1187280" y="2133720"/>
            <a:ext cx="6624720" cy="79056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468360" y="2133720"/>
            <a:ext cx="83534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Практическая деятельность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– преобразование объекта, результат которого удовлетворяет потребность 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обычная жиз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43632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искус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84360" y="2133720"/>
            <a:ext cx="7920000" cy="151128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99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ознание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деятельность по созданию и преобразованию идеальных представлений предмета, вовлеченного в практическую деятель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92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Идеальные представления, связанные с языковыми или перцептивными структурами –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знания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755640" y="2060640"/>
            <a:ext cx="7920000" cy="2016000"/>
          </a:xfrm>
          <a:prstGeom prst="rect">
            <a:avLst/>
          </a:prstGeom>
          <a:noFill/>
          <a:ln w="1584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278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74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Наука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 познавательная деятельность, состоящая в  порождении, систематизации и обосновании новых объективных знаний о реа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714240" y="2571840"/>
            <a:ext cx="7848720" cy="244620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Анали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41080">
              <a:lnSpc>
                <a:spcPct val="8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ознавательная деятельность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деятельность с идеальными объект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41080">
              <a:lnSpc>
                <a:spcPct val="8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Реальность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объективная и субъек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8920" indent="-541080">
              <a:lnSpc>
                <a:spcPct val="8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Объективное знание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отличительный признак нау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00"/>
                </a:solidFill>
                <a:latin typeface="Georgia"/>
              </a:rPr>
              <a:t>Объективное знание</a:t>
            </a: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знание, допускающее критическую проверк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2. Наука как объект философ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ка как познавательная деятельность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14:36Z</dcterms:created>
  <dc:creator>David</dc:creator>
  <dc:description/>
  <dc:language>en-US</dc:language>
  <cp:lastModifiedBy>Bryush</cp:lastModifiedBy>
  <dcterms:modified xsi:type="dcterms:W3CDTF">2009-02-19T09:08:27Z</dcterms:modified>
  <cp:revision>22</cp:revision>
  <dc:subject/>
  <dc:title>Слайд 1</dc:title>
</cp:coreProperties>
</file>